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0501-415B-4213-843C-795BC83EF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BE40-DDC6-416E-9A61-6BC87B55D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48D-67A1-4F7F-BD79-44278A866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074F-2A27-425C-B104-BAB37889F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B0EF-8A6F-48DB-9CB1-5CA686E4B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88C6-4416-4FDD-9585-C0136122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6F6F-31FD-4258-A88D-FC2EB1967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CCDC-AC3B-42DB-BA8E-8B740071C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0B7D-5294-4173-92A6-35415377D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B02D-407D-4DC4-BE03-7926666D5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258A-3F50-487F-A9B4-744FFD6B1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295E-FEEB-40B3-9DCC-50551FA1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2DE2-5F29-4F9E-B0B5-BC249976F3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751-CD78-473C-A427-7353A0472A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1271-F3D3-498C-938B-27A3CACD55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6627-EC3A-4475-AF62-C6B662FB82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158-8D37-4906-AEB4-11D72E5F2A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BA1F-68F2-4301-BC67-3B177BAFB2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Features of our Camp Learning Wall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7000"/>
          </a:bodyPr>
          <a:p>
            <a:pPr marL="37116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ey L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om the plenary and breakout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 know I’ve learne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we learned and how we know we’ve learn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mples of Participants’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chor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ngs to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9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ries of group thinking, list of instructional strategies used, sample resources and learn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99A-A8FC-4B05-B9CA-EAD2ECA110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think your learning wall was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169-DC9B-4352-96C9-56938592C2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5FE-734B-4B5B-9264-AB476B1D3D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1DE1-129B-4AA5-9B41-9221C283B6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020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vernote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ADE3-26C5-4E04-8AAE-9695C7C4E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CD30-7F80-4918-990F-9407616B43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07920" y="1133640"/>
            <a:ext cx="7407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7FE-47FD-4815-BC2D-0B4CC8F4B5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6AF-D559-4A1F-B086-30BD3366B8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CLIPS, epractice, www.101.qs.com, a selection of video clips or even the Math Campp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287F-476E-49F7-BD87-02DD982F0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44F1-8625-4B60-B855-0FEAAD2A8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6DB-D4D8-4329-A498-67CBD8E41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8628-1E51-4FDE-BA73-74129DB92E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B056-EEC4-49FE-9920-5BE6586027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alk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223B-AABD-415E-8590-A522727D9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FF5-1C58-4963-884B-11479B27E2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90720" y="2057400"/>
            <a:ext cx="7238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At school, only the quality of teacher is a greater determinant of student success than the environment. Environments can be nourishing or toxic, supportive or draining. Environments are never neutral … (Jensen,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90720" y="3809880"/>
            <a:ext cx="72388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Managed well, it [a display or learning wall] can create a climate where students feel valued, nurtured and can achieve beyond their potential.  (Andrew-Power &amp; Gormley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0" y="5867280"/>
            <a:ext cx="659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000000"/>
                </a:solidFill>
                <a:uFillTx/>
                <a:latin typeface="Arial"/>
              </a:rPr>
              <a:t>On Display: Wall-to-Wall Learning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 Kirstie Andrew-Power and Charlotte Gormley, Curriculum Briefing, Vol. 5, No. 2, 2007, London, GB. </a:t>
            </a: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www.teachingexpertise.com/files/Wall%20display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– One Tool to Support Student Achieve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D395-6237-48F1-968E-0424407CA4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1752480"/>
            <a:ext cx="8458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earning walls can contain any number of a variety of features, but typically include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Key Lear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Learning Outcomes/Goals, Must/Should/C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uccess Cri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Checking My Understanding, How I Know I’ve learned, I am beginning to understand ____________ if I …,  I am developing a deeper understanding of ____________ if I …, I am refining my understanding of ____________ if I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Student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anchor charts, WALT (We Are Learning To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Things I Need to Re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Word Wall, Formulas, Graphs, Charts,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Key Assessment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e.g. types of problems, problems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57F-4039-4585-93FB-6C5DD8C7BE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2T19:48:20Z</dcterms:modified>
  <cp:revision>46</cp:revision>
  <dc:subject/>
  <dc:title>&lt;Title&gt;</dc:title>
</cp:coreProperties>
</file>